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8C0C37-70F4-405A-A8C4-0AE3E3A97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FC833D-F72D-45A6-9E12-30BC9135F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8958A-1642-469F-8DF3-B08B24CFE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6FFE6-1869-4896-92B4-3C05AE58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A4288-3116-407C-8E15-75D51761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8BC22-3F1F-4A1D-9A89-6789F5F26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652B-2717-4CC6-A193-C8A8FA2A8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8F76-E143-4768-9192-F0C376AB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C324-0988-4120-9ACF-A0DEEE4E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69EFF-939A-4DC0-A680-6F020144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C0052-8A76-40E1-B54D-F28B5DF7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DAA2-40A3-4E03-A15C-DF492F153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E4C3-78D2-40A2-8B38-B25A8C49B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EB63-3EF4-4E79-B0DC-F224C5719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B8F7-4929-4481-9AC4-E19CBEDBC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of Poet</a:t>
            </a:r>
            <a:br>
              <a:rPr sz="4400"/>
            </a:br>
            <a:r>
              <a:rPr b="0" lang="en-US" sz="4400" spc="-1" strike="noStrike">
                <a:solidFill>
                  <a:srgbClr val="000000"/>
                </a:solidFill>
                <a:latin typeface="Arial"/>
              </a:rPr>
              <a:t>Title of Po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5840"/>
            <a:ext cx="6400800" cy="1676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s of students in grou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Hin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es poem reflect the characteristics of the Romantic Period of literature?</a:t>
            </a:r>
            <a:endParaRPr b="0" lang="en-US" sz="3600" spc="-1" strike="noStrike">
              <a:solidFill>
                <a:srgbClr val="000000"/>
              </a:solidFill>
              <a:latin typeface="Arial"/>
            </a:endParaRPr>
          </a:p>
        </p:txBody>
      </p:sp>
      <p:sp>
        <p:nvSpPr>
          <p:cNvPr id="69" name=""/>
          <p:cNvSpPr txBox="1"/>
          <p:nvPr/>
        </p:nvSpPr>
        <p:spPr>
          <a:xfrm>
            <a:off x="457200" y="2438280"/>
            <a:ext cx="8229600" cy="368784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the characteristics:</a:t>
            </a:r>
            <a:endParaRPr b="0" lang="en-US" sz="28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agination and naturalness</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al experiences and emotions, often in simple, unadorned language</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eam world or supernatural; magical</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dividual liberty; rebellion against tyranny</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ure as transformative (nature mirrors human mind’s creative properties)</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uest for truth and beauty</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ld’s sense of wonder</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cial idealism</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aption to change</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poem reflect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e every source you used in </a:t>
            </a:r>
            <a:r>
              <a:rPr b="1" lang="en-US" sz="3200" spc="-1" strike="noStrike">
                <a:solidFill>
                  <a:srgbClr val="000000"/>
                </a:solidFill>
                <a:latin typeface="Arial"/>
              </a:rPr>
              <a:t>MLA format </a:t>
            </a:r>
            <a:r>
              <a:rPr b="0" lang="en-US" sz="3200" spc="-1" strike="noStrike">
                <a:solidFill>
                  <a:srgbClr val="000000"/>
                </a:solidFill>
                <a:latin typeface="Arial"/>
              </a:rPr>
              <a:t>(including picture source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three information sources requir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itation for a picture:</a:t>
            </a:r>
            <a:endParaRPr b="0" lang="en-US" sz="3200" spc="-1" strike="noStrike">
              <a:solidFill>
                <a:srgbClr val="000000"/>
              </a:solidFill>
              <a:latin typeface="Arial"/>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 With Flower. Digital image. Creative Commons. </a:t>
            </a:r>
            <a:r>
              <a:rPr b="0" lang="en-US" sz="2400" spc="-1" strike="noStrike">
                <a:solidFill>
                  <a:srgbClr val="000000"/>
                </a:solidFill>
                <a:latin typeface="Arial"/>
              </a:rPr>
              <a:t>	</a:t>
            </a:r>
            <a:r>
              <a:rPr b="0" lang="en-US" sz="2400" spc="-1" strike="noStrike">
                <a:solidFill>
                  <a:srgbClr val="000000"/>
                </a:solidFill>
                <a:latin typeface="Arial"/>
              </a:rPr>
              <a:t>Horticulture Today. Web.12 Feb. 2010.</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0" lang="en-US" sz="3200" spc="-1" strike="noStrike" u="sng">
                <a:solidFill>
                  <a:srgbClr val="009999"/>
                </a:solidFill>
                <a:uFillTx/>
                <a:latin typeface="Arial"/>
                <a:hlinkClick r:id="rId1"/>
              </a:rPr>
              <a:t>www.easybib.com</a:t>
            </a:r>
            <a:r>
              <a:rPr b="0" lang="en-US" sz="3200" spc="-1" strike="noStrike">
                <a:solidFill>
                  <a:srgbClr val="000000"/>
                </a:solidFill>
                <a:latin typeface="Arial"/>
              </a:rPr>
              <a:t> or the MLA Sample Citation sheet to check for correct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and Saving</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ix slides per page in black and white.  (Go to File    Print. Under “Print What” select “Hand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ple sheets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Delete this slide before print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this Ppt. to your SharePoint site!</a:t>
            </a:r>
            <a:endParaRPr b="0" lang="en-US" sz="3200" spc="-1" strike="noStrike">
              <a:solidFill>
                <a:srgbClr val="000000"/>
              </a:solidFill>
              <a:latin typeface="Arial"/>
            </a:endParaRPr>
          </a:p>
        </p:txBody>
      </p:sp>
      <p:sp>
        <p:nvSpPr>
          <p:cNvPr id="74" name="Line 5"/>
          <p:cNvSpPr/>
          <p:nvPr/>
        </p:nvSpPr>
        <p:spPr>
          <a:xfrm>
            <a:off x="4191120" y="2362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graphy of the Poet</a:t>
            </a:r>
            <a:endParaRPr b="0" lang="en-US" sz="4400" spc="-1" strike="noStrike">
              <a:solidFill>
                <a:srgbClr val="000000"/>
              </a:solidFill>
              <a:latin typeface="Arial"/>
            </a:endParaRPr>
          </a:p>
        </p:txBody>
      </p:sp>
      <p:sp>
        <p:nvSpPr>
          <p:cNvPr id="51" name=""/>
          <p:cNvSpPr txBox="1"/>
          <p:nvPr/>
        </p:nvSpPr>
        <p:spPr>
          <a:xfrm>
            <a:off x="457200" y="1523880"/>
            <a:ext cx="4038480" cy="4091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provide brief biographical inform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no more than thirty words on a slide – you’ll be filling in the details as you speak during your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txBox="1"/>
          <p:nvPr/>
        </p:nvSpPr>
        <p:spPr>
          <a:xfrm>
            <a:off x="4686480" y="139392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ossible, provide pictures of the poet.  Search Creative Commons for copyright-friendly pictures, or use the picture from the Gale literature databas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ay insert additional slides for the biography (or any other topic) as necessar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6" descr="C:\Users\jeakelly\AppData\Local\Microsoft\Windows\Temporary Internet Files\Content.IE5\VXIMMETQ\MC900423171[1].wmf"/>
          <p:cNvPicPr/>
          <p:nvPr/>
        </p:nvPicPr>
        <p:blipFill>
          <a:blip r:embed="rId1"/>
          <a:stretch/>
        </p:blipFill>
        <p:spPr>
          <a:xfrm>
            <a:off x="1600200" y="4876920"/>
            <a:ext cx="1827360" cy="18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poem abou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poem by paraph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 line by line or stanza by stanza woul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Setting</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nd when does the poem tak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Mood or Tone </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mood or tone of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Main Ideas or Them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essages that the author wants to conv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uthor’s pur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take away from the poem after having rea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e of Poet’s Life and Culture on the Content of the Poem</a:t>
            </a:r>
            <a:endParaRPr b="0" lang="en-US" sz="4000" spc="-1" strike="noStrike">
              <a:solidFill>
                <a:srgbClr val="000000"/>
              </a:solidFill>
              <a:latin typeface="Arial"/>
            </a:endParaRPr>
          </a:p>
        </p:txBody>
      </p:sp>
      <p:sp>
        <p:nvSpPr>
          <p:cNvPr id="63" name=""/>
          <p:cNvSpPr txBox="1"/>
          <p:nvPr/>
        </p:nvSpPr>
        <p:spPr>
          <a:xfrm>
            <a:off x="457200" y="2133720"/>
            <a:ext cx="8229600" cy="4068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a little about the poet’s life and the culture in which he lived.  Now apply it!  Think about how the poet’s life experiences and the time period in which he lived contributed to (or can be seen in)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Speaker and Audien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peaker of the poem, based on the information presented in the poem.  THE SPEAKER IS NOT THE PO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audience or intended receiver of the poem, based on the information in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ylistic Devices Used in Poe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At least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yme, free verse, repetition, metaphor, simile, alliteration (consonance or assonance), onomatopoeia, hyperbole, paradox, oxymoron, symbolism, personification, flashback, allus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QUOTES FROM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0:28:25Z</dcterms:created>
  <dc:creator>Virginia Beach City Public Schools</dc:creator>
  <dc:description/>
  <dc:language>en-US</dc:language>
  <cp:lastModifiedBy>jeakelly</cp:lastModifiedBy>
  <dcterms:modified xsi:type="dcterms:W3CDTF">2011-03-10T20:09:33Z</dcterms:modified>
  <cp:revision>160</cp:revision>
  <dc:subject/>
  <dc:title>“Name of Poem” Author</dc:title>
</cp:coreProperties>
</file>